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E3953-D5F0-4962-99AE-AB4B1B4B1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BBE28-14D7-4A6C-991D-4295CD4A0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A9435-7C53-480C-9673-40A0A8C6C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2FE84-F0EB-43F4-BFAF-1DB1011E4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8418B-D0FC-43D4-83BF-32D06A5E8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F1138-C45B-426D-8CBC-1FC0E3B1A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CC999-8CB4-4254-9FA4-5FD9AE697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6588A-E4B0-4E2D-B263-B860EA269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47F02-8875-48B7-A427-CC70E4DEF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67452-1F49-4BCF-9F0B-886E14394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F20BB-3EC9-40AD-A80E-87DF3E587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A2A0D-F500-4766-81C8-138E752D1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65B97-67F3-4039-81CB-8E6E493AE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B843A-6244-42FB-9FE6-EDF2E2B69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BC704-B9A9-4713-9CAE-09C300F7E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A0C1D-8A0D-465A-A4DD-B2440E0B9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3365A-EAE8-43BB-B49B-F69AEE1AA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529C81-7A4A-4929-B07C-8267EF3A5A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8AA51E-EAF7-4237-BEB4-329FB4BB1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A1784-19F0-401F-AE90-D29CA8C909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C9CF6-E0A0-4210-BF29-CA996E8E7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484E40-FA72-4976-9FDA-6D6C51263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934A2-EDAA-4B2B-93E1-668EAFACA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57998-6811-4C72-9741-9173B1A1F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0B81E-8920-40E9-B5FF-679F50902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CCF9A-67D4-42B8-AECA-C9B4E2039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CAF4C-77DD-4E70-B932-70E46BE60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7B63C-8DE8-4C35-9780-1C4EB7BFE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325B17-AB59-4A52-A28A-586751EB7E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16530-9275-415A-877B-63D6F722F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1FBDC0-3BB8-4E05-9E39-3B065791EF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A5130-56E6-45C3-AF15-488B04BBC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E9A555-8896-44E2-856F-139F3094AE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458FE-F3E2-4AE8-A685-E202B7A4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A1AA1-739F-4297-86B4-BDC095C434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9BBB00-EA9B-47BF-A673-2D95F1A26E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F32E9-E7D2-4DF3-9863-34390606E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50F0E-18DC-4ED9-B516-657029377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BB48E-4863-43B4-88DC-EAE5DE2CF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B7A14-CDD6-479B-96CE-C4BBE3F78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C541C-92A1-4467-B093-E5A212206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EB3821-895F-4C57-A30F-0525783215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2285DC-DC28-4F27-B46A-49AD9CD03B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CE1573-D4E8-4267-BBCF-B653FA1666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0A611-5796-4EBC-A73B-5BF703ADB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7FEB33-D363-43D6-BEDF-6A1658DC86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2EFF7-9D63-459B-B5AD-7BBE55E052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66F09A-E615-45BE-882C-9DA6EC1536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2D96B-306E-4238-8725-96EB49A3C9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305353-78F9-40D1-B25D-86F41BC10B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F027B-5A05-439E-A92A-FD9CE0A3D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C96DC-8C1F-4A92-B2BC-13A0B8F60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917C0-E57F-4881-9167-F5729CDBE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3DBFF-6AB8-427C-B349-78B482292B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BA5130-32A6-403D-9115-E3D64C0826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79C8D-BB52-4E58-8BD0-921F891FC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B026C5-6FA9-43B4-9B3D-2225245E57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EB6DE1-89C9-4D65-809F-A6B6CCB398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148397-9E84-4F37-A027-B595A3D786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DA1874-0636-4010-832D-E7BD2C294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3DE2D-08EC-4B7A-81CB-2133E18974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BF4F5E-0BE3-42C7-87F3-FA45E2960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DF9F06-28CA-48F8-909B-C572D8324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8F256-BC1A-40C5-8B11-C2C45EDD6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43E81F-3BE6-4701-84D5-2268DD211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89B73F-A28C-4333-816E-A229BD971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26927-FCD0-495C-BE07-42DD50B1C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838DF6-20F0-4B46-A554-E8F94A641F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14B537-2165-4A72-AF33-E2D858E32F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D8B59A-F498-4CB0-9BDE-679D03BD0C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B854A-1813-4710-8DF2-49F0CFD3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63C2-DC14-458E-A4EF-AF3D6A1C9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009D-4761-490E-B13F-4107EC71B0C7}"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08A9-B053-4808-812B-C9A9AD5F4A19}"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4656-BD94-44F8-9171-9ABBB4CDF877}"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7758-3C37-463B-A2AB-9285BC81AD74}"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5FB8-7DBF-4CC8-9244-C9389FCB5659}"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3E3D-3FC9-431B-A052-AF8228B1604D}"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1676520" y="99072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f56"/>
                </a:solidFill>
                <a:latin typeface="Arial"/>
              </a:rPr>
              <a:t>College Planning Project Reflection</a:t>
            </a:r>
            <a:endParaRPr b="0" lang="en-US" sz="2800" spc="-1" strike="noStrike">
              <a:solidFill>
                <a:srgbClr val="ffffff"/>
              </a:solidFill>
              <a:latin typeface="Arial"/>
            </a:endParaRPr>
          </a:p>
        </p:txBody>
      </p:sp>
      <p:pic>
        <p:nvPicPr>
          <p:cNvPr id="255" name="Picture 2" descr="http://humanities.osu.edu/departments/images/u_hall_autumn.jpg"/>
          <p:cNvPicPr/>
          <p:nvPr/>
        </p:nvPicPr>
        <p:blipFill>
          <a:blip r:embed="rId1"/>
          <a:srcRect l="22798" t="4163" r="25202" b="10413"/>
          <a:stretch/>
        </p:blipFill>
        <p:spPr>
          <a:xfrm>
            <a:off x="3314880" y="2666880"/>
            <a:ext cx="25146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5562720" y="83808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f56"/>
                </a:solidFill>
                <a:latin typeface="Arial"/>
              </a:rPr>
              <a:t>Mathematics  </a:t>
            </a:r>
            <a:endParaRPr b="0" lang="en-US" sz="3200" spc="-1" strike="noStrike">
              <a:solidFill>
                <a:srgbClr val="ffffff"/>
              </a:solidFill>
              <a:latin typeface="Arial"/>
            </a:endParaRPr>
          </a:p>
        </p:txBody>
      </p:sp>
      <p:sp>
        <p:nvSpPr>
          <p:cNvPr id="257" name="TextBox 2"/>
          <p:cNvSpPr/>
          <p:nvPr/>
        </p:nvSpPr>
        <p:spPr>
          <a:xfrm>
            <a:off x="6019920" y="1981080"/>
            <a:ext cx="1676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learned in Excel how to add the formulas up with SUM in Excel and make every thing  fit and give the total and see how much I’ve spent and how much to spend for college.</a:t>
            </a:r>
            <a:endParaRPr b="0" lang="en-US" sz="1800" spc="-1" strike="noStrike">
              <a:solidFill>
                <a:srgbClr val="ffffff"/>
              </a:solidFill>
              <a:latin typeface="Arial"/>
            </a:endParaRPr>
          </a:p>
        </p:txBody>
      </p:sp>
      <p:pic>
        <p:nvPicPr>
          <p:cNvPr id="258" name="Picture 2" descr="http://www.nassaulibrary.org/hewlett/math0011.gif"/>
          <p:cNvPicPr/>
          <p:nvPr/>
        </p:nvPicPr>
        <p:blipFill>
          <a:blip r:embed="rId1"/>
          <a:stretch/>
        </p:blipFill>
        <p:spPr>
          <a:xfrm>
            <a:off x="1066680" y="1371600"/>
            <a:ext cx="3505320" cy="29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3581280" y="7621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Technolo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0" name="TextBox 2"/>
          <p:cNvSpPr/>
          <p:nvPr/>
        </p:nvSpPr>
        <p:spPr>
          <a:xfrm>
            <a:off x="2209680" y="160020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ing Excel fit for my college planning so that I could  have a grade. The technology skills that I learned where making words in it and adding up all the formulas to make the total. But when I had troubles I would apply my knowledge and remembered how to make  the formulas fit.</a:t>
            </a:r>
            <a:endParaRPr b="0" lang="en-US" sz="1800" spc="-1" strike="noStrike">
              <a:solidFill>
                <a:srgbClr val="ffffff"/>
              </a:solidFill>
              <a:latin typeface="Arial"/>
            </a:endParaRPr>
          </a:p>
        </p:txBody>
      </p:sp>
      <p:pic>
        <p:nvPicPr>
          <p:cNvPr id="261" name="Picture 2" descr="http://www.gtchs.org/Departments/Departments%20Page/Technology.jpg"/>
          <p:cNvPicPr/>
          <p:nvPr/>
        </p:nvPicPr>
        <p:blipFill>
          <a:blip r:embed="rId1"/>
          <a:srcRect l="0" t="0" r="1887" b="-1027"/>
          <a:stretch/>
        </p:blipFill>
        <p:spPr>
          <a:xfrm>
            <a:off x="3079800" y="3886200"/>
            <a:ext cx="2984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C:\Documents and Settings\Twlab\Local Settings\Temporary Internet Files\Content.IE5\PA3E1U01\MPj04423100000[1].jpg"/>
          <p:cNvPicPr/>
          <p:nvPr/>
        </p:nvPicPr>
        <p:blipFill>
          <a:blip r:embed="rId1"/>
          <a:stretch/>
        </p:blipFill>
        <p:spPr>
          <a:xfrm>
            <a:off x="4572000" y="0"/>
            <a:ext cx="4572000" cy="3048120"/>
          </a:xfrm>
          <a:prstGeom prst="rect">
            <a:avLst/>
          </a:prstGeom>
          <a:ln w="0">
            <a:noFill/>
          </a:ln>
        </p:spPr>
      </p:pic>
      <p:pic>
        <p:nvPicPr>
          <p:cNvPr id="263" name="Picture 3" descr=""/>
          <p:cNvPicPr/>
          <p:nvPr/>
        </p:nvPicPr>
        <p:blipFill>
          <a:blip r:embed="rId2"/>
          <a:stretch/>
        </p:blipFill>
        <p:spPr>
          <a:xfrm>
            <a:off x="0" y="0"/>
            <a:ext cx="4572000" cy="3049560"/>
          </a:xfrm>
          <a:prstGeom prst="rect">
            <a:avLst/>
          </a:prstGeom>
          <a:ln w="0">
            <a:noFill/>
          </a:ln>
        </p:spPr>
      </p:pic>
      <p:sp>
        <p:nvSpPr>
          <p:cNvPr id="264" name="TextBox 1"/>
          <p:cNvSpPr/>
          <p:nvPr/>
        </p:nvSpPr>
        <p:spPr>
          <a:xfrm>
            <a:off x="2895480" y="365760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Affective Development  </a:t>
            </a:r>
            <a:endParaRPr b="0" lang="en-US" sz="2400" spc="-1" strike="noStrike">
              <a:solidFill>
                <a:srgbClr val="ffffff"/>
              </a:solidFill>
              <a:latin typeface="Arial"/>
            </a:endParaRPr>
          </a:p>
        </p:txBody>
      </p:sp>
      <p:sp>
        <p:nvSpPr>
          <p:cNvPr id="265" name="TextBox 2"/>
          <p:cNvSpPr/>
          <p:nvPr/>
        </p:nvSpPr>
        <p:spPr>
          <a:xfrm>
            <a:off x="3124080" y="482616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made my knowledge  of self go up because I learned that I'm pretty good in choosing stuff that I need even though I only got a laptop that does every thing.</a:t>
            </a:r>
            <a:endParaRPr b="0" lang="en-US" sz="1800" spc="-1" strike="noStrike">
              <a:solidFill>
                <a:srgbClr val="ffffff"/>
              </a:solidFill>
              <a:latin typeface="Arial"/>
            </a:endParaRPr>
          </a:p>
        </p:txBody>
      </p:sp>
      <p:pic>
        <p:nvPicPr>
          <p:cNvPr id="266" name="Picture 4" descr="C:\Documents and Settings\Twlab\Local Settings\Temporary Internet Files\Content.IE5\E3BLC9D4\MPj04392560000[1].jpg"/>
          <p:cNvPicPr/>
          <p:nvPr/>
        </p:nvPicPr>
        <p:blipFill>
          <a:blip r:embed="rId3"/>
          <a:stretch/>
        </p:blipFill>
        <p:spPr>
          <a:xfrm>
            <a:off x="6019920" y="4359240"/>
            <a:ext cx="3124080" cy="2498760"/>
          </a:xfrm>
          <a:prstGeom prst="rect">
            <a:avLst/>
          </a:prstGeom>
          <a:ln w="0">
            <a:noFill/>
          </a:ln>
        </p:spPr>
      </p:pic>
      <p:pic>
        <p:nvPicPr>
          <p:cNvPr id="267" name="Picture 5" descr="C:\Documents and Settings\Twlab\Local Settings\Temporary Internet Files\Content.IE5\E3BLC9D4\MPj04392560000[1].jpg"/>
          <p:cNvPicPr/>
          <p:nvPr/>
        </p:nvPicPr>
        <p:blipFill>
          <a:blip r:embed="rId4"/>
          <a:stretch/>
        </p:blipFill>
        <p:spPr>
          <a:xfrm>
            <a:off x="0" y="4419720"/>
            <a:ext cx="304812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3352680" y="13716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Decision-Making</a:t>
            </a:r>
            <a:endParaRPr b="0" lang="en-US" sz="2400" spc="-1" strike="noStrike">
              <a:solidFill>
                <a:srgbClr val="ffffff"/>
              </a:solidFill>
              <a:latin typeface="Arial"/>
            </a:endParaRPr>
          </a:p>
        </p:txBody>
      </p:sp>
      <p:sp>
        <p:nvSpPr>
          <p:cNvPr id="269" name="TextBox 2"/>
          <p:cNvSpPr/>
          <p:nvPr/>
        </p:nvSpPr>
        <p:spPr>
          <a:xfrm>
            <a:off x="3276720" y="2057400"/>
            <a:ext cx="2895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t important thing for college I think was picking the right college. I made the decision because I was in a hurry for finishing the college pi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3:57Z</dcterms:created>
  <dc:creator>ITSUser</dc:creator>
  <dc:description/>
  <dc:language>en-US</dc:language>
  <cp:lastModifiedBy>ITSUser</cp:lastModifiedBy>
  <dcterms:modified xsi:type="dcterms:W3CDTF">2010-02-10T20:58:35Z</dcterms:modified>
  <cp:revision>7</cp:revision>
  <dc:subject/>
  <dc:title>Slide 1</dc:title>
</cp:coreProperties>
</file>